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wmf" ContentType="image/x-wmf"/>
  <Override PartName="/ppt/media/image12.jpeg" ContentType="image/jpeg"/>
  <Override PartName="/ppt/media/image8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EF6-1AB9-4B6F-87BD-50053571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5B9-EBC1-4FE7-B1A8-1D0DC66A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D08-C869-4884-BEFB-FC38FABA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1DC2-9D96-4520-BB22-05A91F24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BC48-3FE3-40E0-A13F-5D786A34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A749-325D-479B-979F-17B394F0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CC0C-EB86-484A-8CB8-B64F04D8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C36F-9C71-4B44-A76C-68C16097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B6FD-CC33-4C3D-BDD0-08BAAEB7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8E77-5D92-47DA-8523-DAD8F186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F2D3-CFCC-4ADF-B941-C65EE164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0F09-0B1F-42D1-8359-78577D01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9D20-846C-4030-8ED9-62B9B4CD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5BDB-7090-4D23-AA83-4FDBE5E8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2E29-0E92-48A0-8D42-44943901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2731-F2BA-4D6F-ADB2-3D9A4E37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F14A-11F8-493C-A948-042F4907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F4AB-930F-4E41-9FA8-0F82AE7F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631-DCA5-4974-92E8-8AEB9FE7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AF21-2D6B-4C75-A339-7C476D27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8B1F-D219-4D14-A7D7-0B81169F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4F39-D287-4903-BE57-398BD992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CC3-AD5D-433A-B637-B4818D17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030-09E6-4075-9CE3-94948015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C3DC-5C34-4AE6-8A60-286D0F9A8F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0B7C-B5F9-4EA1-81BD-A55119FB9E0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79640" y="620640"/>
            <a:ext cx="697392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Times New Roman"/>
              </a:rPr>
              <a:t>РАБОТА</a:t>
            </a:r>
            <a:br>
              <a:rPr sz="6000"/>
            </a:br>
            <a:r>
              <a:rPr b="0" lang="ru-RU" sz="6000" spc="-1" strike="noStrike">
                <a:solidFill>
                  <a:srgbClr val="eaeaea"/>
                </a:solidFill>
                <a:latin typeface="Times New Roman"/>
              </a:rPr>
              <a:t> С ОДАРЕННЫМИ ДЕТЬМИ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             </a:t>
            </a:r>
            <a:br>
              <a:rPr sz="6600"/>
            </a:br>
            <a:br>
              <a:rPr sz="6600"/>
            </a:br>
            <a:br>
              <a:rPr sz="3600"/>
            </a:b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 </a:t>
            </a:r>
            <a:br>
              <a:rPr sz="6600"/>
            </a:b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ыполнила учитель физики высшей квалификационной категории МБОУ АСОШ №2  Набиева Фидания Рависовна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9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9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9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9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57240" y="214200"/>
            <a:ext cx="707256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4"/>
                </a:solidFill>
                <a:latin typeface="Times New Roman"/>
              </a:rPr>
              <a:t>Ниже даны личностные и деловые качества учеников.  Отметьте знаком (+) те качества, которые Вам нравятся в учениках, а знаком (-) те, что не нравятся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14200" y="1285920"/>
            <a:ext cx="8501040" cy="557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исциплинированный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2. Неровно успевающий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3. Организованный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4. Выбивающийся из общего темп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5. Эрудированный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6. Странный в поведении, непонятный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7. Умеющий поддержать общее дело (коллективист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8. Выскакивающий на уроке с нелепыми замечаниям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9. Стабильно успевающий (всегда хорошо учится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0. Занятый своими делами (индивидуалист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1. Быстро, на лету схватывающий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2. Не умеющий общаться, конфликтный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3. Общающийся легко, приятный в общени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4. Иногда тугодум, не может понять очевидного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5. Ясно, понятно для всех выражающий свои мысли и цели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6. Не всегда подчиняющийся большинству или официальному руководству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aabda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64380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4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c00000"/>
                </a:solidFill>
                <a:latin typeface="Times New Roman"/>
              </a:rPr>
              <a:t>Качества, чаще всего характеризующие одарённых детей</a:t>
            </a:r>
            <a:r>
              <a:rPr b="1" lang="ru-RU" sz="2500" spc="-1" strike="noStrike">
                <a:solidFill>
                  <a:srgbClr val="ffffc4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85480" y="1500120"/>
            <a:ext cx="651492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Неровно успевающий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Выбивающийся из общего темп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Странный в поведении, непонятный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Занятый своими делами (индивидуалист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Не умеющий общаться, конфликтный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Иногда тугодум, не может понять очевидного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Выскакивающий на уроке с нелепыми замечаниям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Не всегда подчиняющийся большинству или официальному руководству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1" name="Picture 8" descr="http://t1.gstatic.com/images?q=tbn:ANd9GcQluaFwWJN3A-YrrNrrrDm0CkZNIfRPQtqkSKbLpcE0RPbaX8uxRg"/>
          <p:cNvPicPr/>
          <p:nvPr/>
        </p:nvPicPr>
        <p:blipFill>
          <a:blip r:embed="rId1"/>
          <a:stretch/>
        </p:blipFill>
        <p:spPr>
          <a:xfrm>
            <a:off x="6643800" y="1227240"/>
            <a:ext cx="2365200" cy="32734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071720" y="5559480"/>
            <a:ext cx="805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Это в большей мере относится    к творчески одарённым.  Творческая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дарённость - большое счастье и испытание для обладателей этого дара, и для учителей и родителей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00160" y="14256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c6600"/>
                </a:solidFill>
                <a:latin typeface="Times New Roman"/>
              </a:rPr>
              <a:t>Проблемы одаренных детей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14200" y="1526760"/>
            <a:ext cx="8591760" cy="51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Американский психолог Б. Карне, кроме достоинств, отмечает 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проблемы одаренных детей: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еприязнь к школе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Игровые интересы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Конформность (отрицание стандартных требований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огружение в философские проблемы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есоответствие между физическим, интеллектуальным и социальным развитием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тремление к совершенству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щущение неудовлетворенност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ереалистические цел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верхчувствительность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отребность во внимании взрослых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етерпимость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изкая продолжительность сн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Picture 5" descr="http://t1.gstatic.com/images?q=tbn:ANd9GcRH4Yc51Dw2ebehWBb_rdIUuXE9bPi7_zr9WH1GHH4aplHkfuTkXw"/>
          <p:cNvPicPr/>
          <p:nvPr/>
        </p:nvPicPr>
        <p:blipFill>
          <a:blip r:embed="rId1"/>
          <a:stretch/>
        </p:blipFill>
        <p:spPr>
          <a:xfrm>
            <a:off x="5972040" y="4037040"/>
            <a:ext cx="2886120" cy="2320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43080" y="214200"/>
            <a:ext cx="657216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блемы обучения  одарённых учащихс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50560" y="1428840"/>
            <a:ext cx="8713800" cy="50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коло 30 % отчисленных из школы за академическую неуспеваемость составляют одарённые дети (Гильбух Ю.3., 1991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коло 30% отчисленных из средних школ за неспособность к обучению, неуспеваемость и даже глупость составляют одарённые и сверходарённые дети (Матюшкин А.М., Сиск Д.А., 1988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 школах Великобритании при идентификации одарённых детей особое внимание уделяют неуспевающим школьникам и школьникам с проблемами в поведении, так как в этой группе детей процент одарённых оказывается наиболее высоким (Сергеева Н.И., 1990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431640">
              <a:spcBef>
                <a:spcPts val="601"/>
              </a:spcBef>
              <a:buClr>
                <a:srgbClr val="ff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5960" y="0"/>
            <a:ext cx="721512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59"/>
                </a:solidFill>
                <a:latin typeface="Times New Roman"/>
              </a:rPr>
              <a:t>Формы работы по обучению интеллектуально одаренных детей в условиях общеобразовательной школы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- индивидуальный подход на уроках, использование в практике элементов дифференцированного обучения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- активные формы обучения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- дополнительные занятия с одарёнными детьми по предметам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- участие в школьных и районных олимпиадах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- проектная деятельность обучающихся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- научно-исследовательская деятельность  обучающихся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- посещение предметных и творческих кружков, внеклассных мероприятий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- конкурсы, интеллектуальные игры, викторины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- создание детских портфолио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Скругленный прямоугольник 3"/>
          <p:cNvSpPr/>
          <p:nvPr/>
        </p:nvSpPr>
        <p:spPr>
          <a:xfrm>
            <a:off x="187200" y="1357200"/>
            <a:ext cx="3456000" cy="221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8d8"/>
              </a:gs>
              <a:gs pos="100000">
                <a:srgbClr val="f2f9f4"/>
              </a:gs>
            </a:gsLst>
            <a:lin ang="16200000"/>
          </a:gradFill>
          <a:ln w="9360">
            <a:solidFill>
              <a:srgbClr val="a6b9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делать так, чтоб ребенок почувствовал себя признанным и востребованным. Научить  конструктивно строить отношения с ровесниками и взрослыми людьм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1" name="Прямоугольник 2" descr=""/>
          <p:cNvPicPr/>
          <p:nvPr/>
        </p:nvPicPr>
        <p:blipFill>
          <a:blip r:embed="rId1"/>
          <a:stretch/>
        </p:blipFill>
        <p:spPr>
          <a:xfrm>
            <a:off x="785880" y="0"/>
            <a:ext cx="7862760" cy="1371600"/>
          </a:xfrm>
          <a:prstGeom prst="rect">
            <a:avLst/>
          </a:prstGeom>
          <a:ln w="0">
            <a:noFill/>
          </a:ln>
        </p:spPr>
      </p:pic>
      <p:sp>
        <p:nvSpPr>
          <p:cNvPr id="192" name="Скругленный прямоугольник 5"/>
          <p:cNvSpPr/>
          <p:nvPr/>
        </p:nvSpPr>
        <p:spPr>
          <a:xfrm>
            <a:off x="258840" y="3714840"/>
            <a:ext cx="3384360" cy="292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8d8"/>
              </a:gs>
              <a:gs pos="100000">
                <a:srgbClr val="f2f9f4"/>
              </a:gs>
            </a:gsLst>
            <a:lin ang="16200000"/>
          </a:gradFill>
          <a:ln w="9360">
            <a:solidFill>
              <a:srgbClr val="a6b9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ать интеллектуальнаую нагрузку, излагая интересные факты, используя ИКТ, продумывая персональные задания, задания на выбор, интегрированные задания. Все, чтобы развивать познавательную активности этих детей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Скругленный прямоугольник 6"/>
          <p:cNvSpPr/>
          <p:nvPr/>
        </p:nvSpPr>
        <p:spPr>
          <a:xfrm>
            <a:off x="3745080" y="1357200"/>
            <a:ext cx="5113080" cy="135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8d8"/>
              </a:gs>
              <a:gs pos="100000">
                <a:srgbClr val="f2f9f4"/>
              </a:gs>
            </a:gsLst>
            <a:lin ang="16200000"/>
          </a:gradFill>
          <a:ln w="9360">
            <a:solidFill>
              <a:srgbClr val="a6b9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знание таким детям необходимо для успеха. Потому создание ситуаций успеха – необходимое условие для развития одаренност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Скругленный прямоугольник 7"/>
          <p:cNvSpPr/>
          <p:nvPr/>
        </p:nvSpPr>
        <p:spPr>
          <a:xfrm>
            <a:off x="3745080" y="2857680"/>
            <a:ext cx="5113080" cy="12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8d8"/>
              </a:gs>
              <a:gs pos="100000">
                <a:srgbClr val="f2f9f4"/>
              </a:gs>
            </a:gsLst>
            <a:lin ang="16200000"/>
          </a:gradFill>
          <a:ln w="9360">
            <a:solidFill>
              <a:srgbClr val="a6b9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обходимая стимуляция: доска почета, ведение портфолио учащихся, интеллектуальные встречи, брейн-ринги, конкурсы, на ряду с обучением саморегуляции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Скругленный прямоугольник 8"/>
          <p:cNvSpPr/>
          <p:nvPr/>
        </p:nvSpPr>
        <p:spPr>
          <a:xfrm>
            <a:off x="3757680" y="4286160"/>
            <a:ext cx="3672000" cy="128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8d8"/>
              </a:gs>
              <a:gs pos="100000">
                <a:srgbClr val="f2f9f4"/>
              </a:gs>
            </a:gsLst>
            <a:lin ang="16200000"/>
          </a:gradFill>
          <a:ln w="9360">
            <a:solidFill>
              <a:srgbClr val="a6b9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я внешкольной занятости ребенка. Развитие социальных и коммуникативных навыков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Скругленный прямоугольник 9"/>
          <p:cNvSpPr/>
          <p:nvPr/>
        </p:nvSpPr>
        <p:spPr>
          <a:xfrm>
            <a:off x="3759120" y="5715000"/>
            <a:ext cx="345600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8d8"/>
              </a:gs>
              <a:gs pos="100000">
                <a:srgbClr val="f2f9f4"/>
              </a:gs>
            </a:gsLst>
            <a:lin ang="16200000"/>
          </a:gradFill>
          <a:ln w="9360">
            <a:solidFill>
              <a:srgbClr val="a6b9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бедиться в том, что у ребенка нет нервозов, перед тем, как начинать развивающую работу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7" name="Рисунок 10" descr="g0120150.WMF"/>
          <p:cNvPicPr/>
          <p:nvPr/>
        </p:nvPicPr>
        <p:blipFill>
          <a:blip r:embed="rId2"/>
          <a:stretch/>
        </p:blipFill>
        <p:spPr>
          <a:xfrm>
            <a:off x="6905520" y="4286160"/>
            <a:ext cx="2589480" cy="262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14720" y="-360"/>
            <a:ext cx="692928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Требования к личности учителя, работающего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 одарёнными учащимися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9" name="Picture 5" descr="http://im8-tub-ru.yandex.net/i?id=290734816-33-72"/>
          <p:cNvPicPr/>
          <p:nvPr/>
        </p:nvPicPr>
        <p:blipFill>
          <a:blip r:embed="rId1"/>
          <a:stretch/>
        </p:blipFill>
        <p:spPr>
          <a:xfrm>
            <a:off x="3500280" y="1285920"/>
            <a:ext cx="2718000" cy="3471840"/>
          </a:xfrm>
          <a:prstGeom prst="rect">
            <a:avLst/>
          </a:prstGeom>
          <a:ln w="0">
            <a:noFill/>
          </a:ln>
        </p:spPr>
      </p:pic>
      <p:sp>
        <p:nvSpPr>
          <p:cNvPr id="200" name="Овальная выноска 5"/>
          <p:cNvSpPr/>
          <p:nvPr/>
        </p:nvSpPr>
        <p:spPr>
          <a:xfrm>
            <a:off x="6500880" y="2357280"/>
            <a:ext cx="2371680" cy="1562400"/>
          </a:xfrm>
          <a:prstGeom prst="wedgeEllipseCallout">
            <a:avLst>
              <a:gd name="adj1" fmla="val -104305"/>
              <a:gd name="adj2" fmla="val 28925"/>
            </a:avLst>
          </a:prstGeom>
          <a:solidFill>
            <a:srgbClr val="cc6600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увлечённость своим делом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Овальная выноска 6"/>
          <p:cNvSpPr/>
          <p:nvPr/>
        </p:nvSpPr>
        <p:spPr>
          <a:xfrm>
            <a:off x="6500880" y="714240"/>
            <a:ext cx="2286000" cy="1643040"/>
          </a:xfrm>
          <a:prstGeom prst="wedgeEllipseCallout">
            <a:avLst>
              <a:gd name="adj1" fmla="val -76120"/>
              <a:gd name="adj2" fmla="val 45125"/>
            </a:avLst>
          </a:prstGeom>
          <a:solidFill>
            <a:srgbClr val="cc6600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желание работать нестандартно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Овальная выноска 7"/>
          <p:cNvSpPr/>
          <p:nvPr/>
        </p:nvSpPr>
        <p:spPr>
          <a:xfrm>
            <a:off x="428760" y="3795840"/>
            <a:ext cx="2101680" cy="1562040"/>
          </a:xfrm>
          <a:prstGeom prst="wedgeEllipseCallout">
            <a:avLst>
              <a:gd name="adj1" fmla="val 113944"/>
              <a:gd name="adj2" fmla="val -37504"/>
            </a:avLst>
          </a:prstGeom>
          <a:solidFill>
            <a:srgbClr val="cc6600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знание психологии одарённых учащихс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Овальная выноска 8"/>
          <p:cNvSpPr/>
          <p:nvPr/>
        </p:nvSpPr>
        <p:spPr>
          <a:xfrm>
            <a:off x="5857920" y="5081760"/>
            <a:ext cx="2928960" cy="1776240"/>
          </a:xfrm>
          <a:prstGeom prst="wedgeEllipseCallout">
            <a:avLst>
              <a:gd name="adj1" fmla="val -47500"/>
              <a:gd name="adj2" fmla="val -111532"/>
            </a:avLst>
          </a:prstGeom>
          <a:solidFill>
            <a:srgbClr val="cc6600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любознательность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Овальная выноска 9"/>
          <p:cNvSpPr/>
          <p:nvPr/>
        </p:nvSpPr>
        <p:spPr>
          <a:xfrm>
            <a:off x="500040" y="5295960"/>
            <a:ext cx="2979720" cy="1562040"/>
          </a:xfrm>
          <a:prstGeom prst="wedgeEllipseCallout">
            <a:avLst>
              <a:gd name="adj1" fmla="val 58685"/>
              <a:gd name="adj2" fmla="val -105921"/>
            </a:avLst>
          </a:prstGeom>
          <a:solidFill>
            <a:srgbClr val="cc6600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эрудированность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Овальная выноска 10"/>
          <p:cNvSpPr/>
          <p:nvPr/>
        </p:nvSpPr>
        <p:spPr>
          <a:xfrm>
            <a:off x="6843600" y="3867120"/>
            <a:ext cx="1830600" cy="1562040"/>
          </a:xfrm>
          <a:prstGeom prst="wedgeEllipseCallout">
            <a:avLst>
              <a:gd name="adj1" fmla="val -86777"/>
              <a:gd name="adj2" fmla="val -46453"/>
            </a:avLst>
          </a:prstGeom>
          <a:solidFill>
            <a:srgbClr val="cc6600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оисковая активность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Овальная выноска 11"/>
          <p:cNvSpPr/>
          <p:nvPr/>
        </p:nvSpPr>
        <p:spPr>
          <a:xfrm>
            <a:off x="0" y="1857240"/>
            <a:ext cx="3003480" cy="2136960"/>
          </a:xfrm>
          <a:prstGeom prst="wedgeEllipseCallout">
            <a:avLst>
              <a:gd name="adj1" fmla="val 81282"/>
              <a:gd name="adj2" fmla="val 5726"/>
            </a:avLst>
          </a:prstGeom>
          <a:solidFill>
            <a:srgbClr val="cc6600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отивационная готовность к работе с одарёнными учащимися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Овальная выноска 12"/>
          <p:cNvSpPr/>
          <p:nvPr/>
        </p:nvSpPr>
        <p:spPr>
          <a:xfrm>
            <a:off x="0" y="0"/>
            <a:ext cx="2500200" cy="1919160"/>
          </a:xfrm>
          <a:prstGeom prst="wedgeEllipseCallout">
            <a:avLst>
              <a:gd name="adj1" fmla="val 101351"/>
              <a:gd name="adj2" fmla="val 51263"/>
            </a:avLst>
          </a:prstGeom>
          <a:solidFill>
            <a:srgbClr val="cc6600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равственность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Овальная выноска 13"/>
          <p:cNvSpPr/>
          <p:nvPr/>
        </p:nvSpPr>
        <p:spPr>
          <a:xfrm>
            <a:off x="3571920" y="5081760"/>
            <a:ext cx="2214360" cy="1562040"/>
          </a:xfrm>
          <a:prstGeom prst="wedgeEllipseCallout">
            <a:avLst>
              <a:gd name="adj1" fmla="val 17953"/>
              <a:gd name="adj2" fmla="val -105921"/>
            </a:avLst>
          </a:prstGeom>
          <a:solidFill>
            <a:srgbClr val="cc6600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знание всех областей человеческой жизн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23640" y="587520"/>
            <a:ext cx="6854760" cy="85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Диагностические этапы выявления одаренных учащихся</a:t>
            </a: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63280" y="1904760"/>
            <a:ext cx="6985080" cy="46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Times New Roman"/>
              </a:rPr>
              <a:t>Номинация (называние)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— имена кандидатов в одаренные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Times New Roman"/>
              </a:rPr>
              <a:t>Выявление проявлений одаренности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в поведении и разных видах деятельности учащегося на основании данных наблюдений, рейтинговых шкал, ответов на анкеты и т.п.;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Times New Roman"/>
              </a:rPr>
              <a:t>Изучение условий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и истории развития учащегося в семье, его интересов, увлечений — сведения о семье, о раннем развитии ребенка, о его интересах и необычных способностях с помощью опросников и интервью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692820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офессиональные умения учителя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63280" y="1904760"/>
            <a:ext cx="6769080" cy="46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умение строить обучение в соответствии с результатами диагностического обследования ребенка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умение модифицировать учебные программы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умение стимулировать когнитивные способности учащихся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умение работать по специальному учебному плану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умение консультировать учащихся и родителей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68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68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82956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Личностные качества учителя: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834920" y="1125000"/>
            <a:ext cx="662436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Умение создать благоприятную атмосферу работы с детьм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оброжелательность: одаренные дети наиболее восприимчив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пособность формировать учебную мотивацию различными способами:  создавать ситуацию успеха, учитывать интересы и способности  ребёнк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Умение экспериментировать на уроке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тремление к учебному сотрудничеству: ребенок  становится партнёром учителя, субъектом учебной деятельности, активно проявляет инициативу и самостоятельност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Заголовок 1"/>
          <p:cNvSpPr/>
          <p:nvPr/>
        </p:nvSpPr>
        <p:spPr>
          <a:xfrm>
            <a:off x="2357280" y="500040"/>
            <a:ext cx="5715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             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           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Актуальность </a:t>
            </a:r>
            <a:br>
              <a:rPr sz="4400"/>
            </a:b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285840" y="714240"/>
            <a:ext cx="850104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just">
              <a:lnSpc>
                <a:spcPct val="80000"/>
              </a:lnSpc>
              <a:spcBef>
                <a:spcPts val="624"/>
              </a:spcBef>
              <a:buClr>
                <a:srgbClr val="aabda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Распознав свои таланты, дети с их особыми нуждами, независимо от тех проблем и ограничений, с которыми они сталкиваются, всегда могут внести в общество свой собственный вклад. </a:t>
            </a: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ефани Дезибур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 algn="just">
              <a:lnSpc>
                <a:spcPct val="80000"/>
              </a:lnSpc>
              <a:spcBef>
                <a:spcPts val="624"/>
              </a:spcBef>
              <a:buClr>
                <a:srgbClr val="aabda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Проблема одаренности в настоящее время становится все более актуальной. Это, прежде всего, связано </a:t>
            </a:r>
            <a:r>
              <a:rPr b="1" i="1" lang="ru-RU" sz="2500" spc="-1" strike="noStrike">
                <a:solidFill>
                  <a:srgbClr val="eaeaea"/>
                </a:solidFill>
                <a:latin typeface="Times New Roman"/>
              </a:rPr>
              <a:t>с потребностью общества в неординарной творческой личности.</a:t>
            </a: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 algn="just">
              <a:lnSpc>
                <a:spcPct val="80000"/>
              </a:lnSpc>
              <a:spcBef>
                <a:spcPts val="624"/>
              </a:spcBef>
              <a:buClr>
                <a:srgbClr val="aabda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Раннее выявление, обучение и воспитание одаренных и талантливых детей составляет одну их главных проблем </a:t>
            </a:r>
            <a:r>
              <a:rPr b="1" i="1" lang="ru-RU" sz="2500" spc="-1" strike="noStrike">
                <a:solidFill>
                  <a:srgbClr val="eaeaea"/>
                </a:solidFill>
                <a:latin typeface="Times New Roman"/>
              </a:rPr>
              <a:t>совершенствования системы образования.</a:t>
            </a: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 Бытует мнение, что одаренные дети не нуждаются в помощи взрослых, в особом внимании и руководстве. Однако в силу личностных особенностей такие дети наиболее чувствительны к оценке их деятельности, поведения и мышления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 algn="just">
              <a:lnSpc>
                <a:spcPct val="80000"/>
              </a:lnSpc>
              <a:spcBef>
                <a:spcPts val="624"/>
              </a:spcBef>
              <a:buClr>
                <a:srgbClr val="aabda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ФОРМЫ РАБОТЫ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834920" y="1905120"/>
            <a:ext cx="6599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лимпиады по предметам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аучно-практические конференции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ыступления и доклады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активная внеклассная работа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едметные недели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ечера, конкурсы, олимпиады, КВН, викторины, аукционы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олевые игры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75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ФОРМЫ РАБОТЫ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670800" cy="483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лассно-урочная (работа в парах, в малых группах), разноуровневые задания, творческие задания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онсультирование по возникшей проблеме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аучные кружки, общества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искуссии;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нтеллектуальные марафоны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зличные конкурсы и викторины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ловесные игры и забавы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оекты по различной тематик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6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23640" y="515520"/>
            <a:ext cx="6854760" cy="104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Times New Roman"/>
              </a:rPr>
              <a:t>Перспективы развития: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ортрет одарённого ребёнка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63280" y="1628280"/>
            <a:ext cx="676908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дарённые дети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чрезвычайно любопытны в отношении того, как устроен тот или иной предмет. Они способны следить за несколькими процессами одновременно и склонны активно исследовать всё окружающее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бладают способностью воспринимать связи между явлениями и предметами и делать соответствующие выводы; им нравится в своём воображении создавать альтернативные системы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тличаются прекрасной памятью в сочетании с ранним языковым развитием и способностью к классификации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бладают большим словарным запасом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е терпят, когда им навязывают готовый ответ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имеют обострённое чувство справедливости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редъявляют высокие требования к себе и окружающим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бладают отличным чувством юмора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ередко у них развивается негативное самовосприятие, возникают трудности в общении со сверстникам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768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768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6" dur="768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8" dur="768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2019240" y="1571760"/>
          <a:ext cx="6767640" cy="5168880"/>
        </p:xfrm>
        <a:graphic>
          <a:graphicData uri="http://schemas.openxmlformats.org/drawingml/2006/table">
            <a:tbl>
              <a:tblPr/>
              <a:tblGrid>
                <a:gridCol w="546120"/>
                <a:gridCol w="2524320"/>
                <a:gridCol w="1427040"/>
                <a:gridCol w="2270160"/>
              </a:tblGrid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Ибрагимов Аяз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(хорошо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Исламов Ильнур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(хорошо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Исламов Ильмир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(хорошо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биров Рустем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(отлично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йбуллин Рамиль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(хорошо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исамов Ильяр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(хорошо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амсиев Данис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(хорошо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"/>
          <p:cNvSpPr/>
          <p:nvPr/>
        </p:nvSpPr>
        <p:spPr>
          <a:xfrm>
            <a:off x="1857240" y="432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2010 - 2011 учебном  году ученик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-х классов   сдавали экзамен по физике со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едующими результатами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928800" y="1471680"/>
          <a:ext cx="8001000" cy="5634000"/>
        </p:xfrm>
        <a:graphic>
          <a:graphicData uri="http://schemas.openxmlformats.org/drawingml/2006/table">
            <a:tbl>
              <a:tblPr/>
              <a:tblGrid>
                <a:gridCol w="645840"/>
                <a:gridCol w="2982960"/>
                <a:gridCol w="1689120"/>
                <a:gridCol w="2683080"/>
              </a:tblGrid>
              <a:tr h="85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родавкин Валери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2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аяхметов Инсаф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4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намов Рушан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0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алиев Гадел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0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аев Разил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2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аева Айсылу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9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ильфанов Рамил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7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имазов Алмаз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5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ирзагитов Ильназ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3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утавалов Ильгам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9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урлыев Ильфа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3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ликов Ильда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3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уснуллина Гульназ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4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1785960" y="5040"/>
            <a:ext cx="714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2010 - 2011 учебном  году ученик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-х классов   сдавали ЕГЭ по физик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 следующими результатами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2571840" y="1071720"/>
          <a:ext cx="5643360" cy="3249360"/>
        </p:xfrm>
        <a:graphic>
          <a:graphicData uri="http://schemas.openxmlformats.org/drawingml/2006/table">
            <a:tbl>
              <a:tblPr/>
              <a:tblGrid>
                <a:gridCol w="468360"/>
                <a:gridCol w="2090520"/>
                <a:gridCol w="1192320"/>
                <a:gridCol w="1892160"/>
              </a:tblGrid>
              <a:tr h="84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гултдинова Гузель 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гълямова Ал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иннатуллина Марьян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ирзагаянов Русла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Rectangle 2"/>
          <p:cNvSpPr/>
          <p:nvPr/>
        </p:nvSpPr>
        <p:spPr>
          <a:xfrm>
            <a:off x="2071800" y="216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Результаты районных олимпиад по физик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за    2011-2012    учебный   год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357280" y="5572080"/>
          <a:ext cx="5715000" cy="946080"/>
        </p:xfrm>
        <a:graphic>
          <a:graphicData uri="http://schemas.openxmlformats.org/drawingml/2006/table">
            <a:tbl>
              <a:tblPr/>
              <a:tblGrid>
                <a:gridCol w="474840"/>
                <a:gridCol w="2117880"/>
                <a:gridCol w="1206360"/>
                <a:gridCol w="191592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урзин Алма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Rectangle 3"/>
          <p:cNvSpPr/>
          <p:nvPr/>
        </p:nvSpPr>
        <p:spPr>
          <a:xfrm>
            <a:off x="2143080" y="42886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Результаты районных олимпиад по       астрономии      за   2011-2012 учебный год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2022480" y="1785960"/>
          <a:ext cx="6621480" cy="2597040"/>
        </p:xfrm>
        <a:graphic>
          <a:graphicData uri="http://schemas.openxmlformats.org/drawingml/2006/table">
            <a:tbl>
              <a:tblPr/>
              <a:tblGrid>
                <a:gridCol w="549360"/>
                <a:gridCol w="2454120"/>
                <a:gridCol w="1397160"/>
                <a:gridCol w="2220840"/>
              </a:tblGrid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взалов Равиль 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5 балло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иннатуллина Марьян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3 балл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акиров Рамис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2 балл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Rectangle 2"/>
          <p:cNvSpPr/>
          <p:nvPr/>
        </p:nvSpPr>
        <p:spPr>
          <a:xfrm>
            <a:off x="1857240" y="5040"/>
            <a:ext cx="707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2011 - 2012 учебном  году ученики 9-х классов сдавали ГИА по физике со следующими результатами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785880" y="1785960"/>
          <a:ext cx="8121600" cy="5265720"/>
        </p:xfrm>
        <a:graphic>
          <a:graphicData uri="http://schemas.openxmlformats.org/drawingml/2006/table">
            <a:tbl>
              <a:tblPr/>
              <a:tblGrid>
                <a:gridCol w="655560"/>
                <a:gridCol w="3029040"/>
                <a:gridCol w="1712880"/>
                <a:gridCol w="2724120"/>
              </a:tblGrid>
              <a:tr h="1057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адретдинов Алмаз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1 балл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аетова Алин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7 балло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усманов Ирек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9 балло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тин Рустам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3 балл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лимзянов Ильдар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7 балло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ильфанов Ризван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6 балло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ингалиев Руслан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7 балло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арваров Аяз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7 балло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етухов Сергей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4 балл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арипянов Насим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5 балло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Rectangle 1"/>
          <p:cNvSpPr/>
          <p:nvPr/>
        </p:nvSpPr>
        <p:spPr>
          <a:xfrm>
            <a:off x="1857240" y="5040"/>
            <a:ext cx="707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В 2011 - 2012 учебном  году ученики 11-х классов сдавали ЕГЭ по физике со следующими результатами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2143080" y="1214280"/>
          <a:ext cx="6500880" cy="2452680"/>
        </p:xfrm>
        <a:graphic>
          <a:graphicData uri="http://schemas.openxmlformats.org/drawingml/2006/table">
            <a:tbl>
              <a:tblPr/>
              <a:tblGrid>
                <a:gridCol w="539640"/>
                <a:gridCol w="2436840"/>
                <a:gridCol w="1344600"/>
                <a:gridCol w="217980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лирахманов Дина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бедител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гълямова Ал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взалов Равил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бедител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иннатуллина Марьян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ирзагаянов Русла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2143080" y="5143680"/>
          <a:ext cx="6429600" cy="1401480"/>
        </p:xfrm>
        <a:graphic>
          <a:graphicData uri="http://schemas.openxmlformats.org/drawingml/2006/table">
            <a:tbl>
              <a:tblPr/>
              <a:tblGrid>
                <a:gridCol w="533520"/>
                <a:gridCol w="2382840"/>
                <a:gridCol w="1357200"/>
                <a:gridCol w="215604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ингазов Исканде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урзин Алмаз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2"/>
          <p:cNvSpPr/>
          <p:nvPr/>
        </p:nvSpPr>
        <p:spPr>
          <a:xfrm>
            <a:off x="1857240" y="146160"/>
            <a:ext cx="707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Результаты районных олимпиад по физик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за 2012-2013 учебный год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Прямоугольник 8"/>
          <p:cNvSpPr/>
          <p:nvPr/>
        </p:nvSpPr>
        <p:spPr>
          <a:xfrm>
            <a:off x="2643120" y="37861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Результаты районных олимпиад по астрономии      за 2012-2013 учебный год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1928880" y="1481040"/>
          <a:ext cx="6692760" cy="5483160"/>
        </p:xfrm>
        <a:graphic>
          <a:graphicData uri="http://schemas.openxmlformats.org/drawingml/2006/table">
            <a:tbl>
              <a:tblPr/>
              <a:tblGrid>
                <a:gridCol w="555480"/>
                <a:gridCol w="2479680"/>
                <a:gridCol w="1413000"/>
                <a:gridCol w="2244600"/>
              </a:tblGrid>
              <a:tr h="96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взалов Равиль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б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иннатуллина Марьян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б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зизов Рушат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ирзагаянов Руслан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хматнабиева Лейл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г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гматуллин Айдар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1"/>
          <p:cNvSpPr/>
          <p:nvPr/>
        </p:nvSpPr>
        <p:spPr>
          <a:xfrm>
            <a:off x="1785960" y="432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Результаты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тура  межрегиональной олимпиады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«Будущее большой химии» по физик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за 2012-2013 учебный год: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19640" y="404640"/>
            <a:ext cx="5473440" cy="13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ациональная образовательная инициатив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Наша новая школа»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Содержимое 2"/>
          <p:cNvSpPr/>
          <p:nvPr/>
        </p:nvSpPr>
        <p:spPr>
          <a:xfrm>
            <a:off x="142920" y="1785960"/>
            <a:ext cx="88581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 разделе «Развитие системы поддержки талантливых детей» Национальной образовательной инициативы «Наша новая школа» говорится следующее: «</a:t>
            </a:r>
            <a:r>
              <a:rPr b="1" i="1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 ближайшие годы в России будет выстроена разветвленная система поиска, поддержки и сопровождения талантливых детей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еобходимо развивать творческую среду для выявления особо одаренных ребят в каждой общеобразовательной школе. Старшеклассникам нужно предоставить возможность обучения в заочных, очно-заочных и дистанционных школах, позволяющих им независимо от места проживания осваивать программы профильной подготовки. Требуется развивать систему олимпиад и конкурсов школьников, практику дополнительного образования, отработать механизмы учета индивидуальных достижений школьников при приеме в вузы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дновременно следует развивать систему поддержки сформировавшихся талантливых детей. Это, прежде всего, образовательные учреждения круглосуточного пребывания. Для ребят, проявивших свои таланты в различных областях деятельности, будут организованы слеты, летние и зимние школы, конференции, семинары и другие мероприятия, поддерживающие сформировавшуюся одаренность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абота с одаренными детьми должна быть экономически целесообразной. Норматив подушевого финансирования следует определять в соответствии с особенностями школьников, а не только образовательного учреждения. Учитель, благодаря которому школьник добился высоких результатов, должен получать значительные стимулирующие выплаты»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иказ №271от 04.02.2010 г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349"/>
              </a:spcBef>
              <a:buClr>
                <a:srgbClr val="aabda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Picture 2" descr="Картинка 489 из 13167"/>
          <p:cNvPicPr/>
          <p:nvPr/>
        </p:nvPicPr>
        <p:blipFill>
          <a:blip r:embed="rId1"/>
          <a:stretch/>
        </p:blipFill>
        <p:spPr>
          <a:xfrm>
            <a:off x="1071720" y="142920"/>
            <a:ext cx="235728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214280" y="1714680"/>
          <a:ext cx="7929720" cy="5257800"/>
        </p:xfrm>
        <a:graphic>
          <a:graphicData uri="http://schemas.openxmlformats.org/drawingml/2006/table">
            <a:tbl>
              <a:tblPr/>
              <a:tblGrid>
                <a:gridCol w="640080"/>
                <a:gridCol w="2957400"/>
                <a:gridCol w="1673280"/>
                <a:gridCol w="265896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гултдинова Гузель 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7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гълямова Ал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7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акилов Рами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2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ильданова Гульназ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2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Ибрагимов Заги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7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ингазов Исканде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7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уриахметов Ригина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7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ертдинова Гульф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0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ликов Исканде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0 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аяхметов Аза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7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флитунов Дени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2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уртдинов Ильназ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0 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удайбердиев Юсуп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7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1"/>
          <p:cNvSpPr/>
          <p:nvPr/>
        </p:nvSpPr>
        <p:spPr>
          <a:xfrm>
            <a:off x="1785960" y="432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В 2012 - 2013 учебном  году ученики 9-х классов сдавали ГИА по физике со следующими      результатами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642960" y="1500120"/>
          <a:ext cx="8072280" cy="4965840"/>
        </p:xfrm>
        <a:graphic>
          <a:graphicData uri="http://schemas.openxmlformats.org/drawingml/2006/table">
            <a:tbl>
              <a:tblPr/>
              <a:tblGrid>
                <a:gridCol w="650880"/>
                <a:gridCol w="3009960"/>
                <a:gridCol w="1703160"/>
                <a:gridCol w="270828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гълямов Дина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1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ипов Айгиз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5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Ибрагимов Аяз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0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биров Ирек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9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биров Рустем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3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гматуллин Айда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2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алахов Була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5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йдаров Рузалин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4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амсиев Дани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6 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арафетдинова Гузел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7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арипов Айну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4 бал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аяхметов Мара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7  балл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Rectangle 1"/>
          <p:cNvSpPr/>
          <p:nvPr/>
        </p:nvSpPr>
        <p:spPr>
          <a:xfrm>
            <a:off x="1785960" y="5040"/>
            <a:ext cx="67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2012 - 2013 учебном  году ученик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-х классов сдавали ЕГЭ по физик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 следующими результатами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428840" y="1500120"/>
          <a:ext cx="7429320" cy="1592280"/>
        </p:xfrm>
        <a:graphic>
          <a:graphicData uri="http://schemas.openxmlformats.org/drawingml/2006/table">
            <a:tbl>
              <a:tblPr/>
              <a:tblGrid>
                <a:gridCol w="1071360"/>
                <a:gridCol w="2706840"/>
                <a:gridCol w="1409760"/>
                <a:gridCol w="2241360"/>
              </a:tblGrid>
              <a:tr h="34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лирахманов Дина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изе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гълямова Ал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бедител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взалов Равил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бедител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1571760" y="4357800"/>
          <a:ext cx="7072200" cy="1566720"/>
        </p:xfrm>
        <a:graphic>
          <a:graphicData uri="http://schemas.openxmlformats.org/drawingml/2006/table">
            <a:tbl>
              <a:tblPr/>
              <a:tblGrid>
                <a:gridCol w="1071360"/>
                <a:gridCol w="2838600"/>
                <a:gridCol w="1220760"/>
                <a:gridCol w="1941480"/>
              </a:tblGrid>
              <a:tr h="97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имирова Айзир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изе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1"/>
          <p:cNvSpPr/>
          <p:nvPr/>
        </p:nvSpPr>
        <p:spPr>
          <a:xfrm>
            <a:off x="1928880" y="35928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Результаты районных олимпиад по физике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за 2013-2014 учебный год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Прямоугольник 6"/>
          <p:cNvSpPr/>
          <p:nvPr/>
        </p:nvSpPr>
        <p:spPr>
          <a:xfrm>
            <a:off x="2000160" y="3357720"/>
            <a:ext cx="66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Результаты районных олимпиад по астрономи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за  2013-2014  учебный год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357120" y="1643040"/>
          <a:ext cx="8786880" cy="4929120"/>
        </p:xfrm>
        <a:graphic>
          <a:graphicData uri="http://schemas.openxmlformats.org/drawingml/2006/table">
            <a:tbl>
              <a:tblPr/>
              <a:tblGrid>
                <a:gridCol w="728640"/>
                <a:gridCol w="2944800"/>
                <a:gridCol w="1084320"/>
                <a:gridCol w="4029120"/>
              </a:tblGrid>
              <a:tr h="84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милия   Им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взалова Алсу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рамота за лучший результа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шфиева Дильба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рамота за лучший результа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маев Айза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рамота за лучший результат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бироа Дина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рамота за лучший результа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ингазов Исканде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ертификат участник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аяхметов Аза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ертификат участник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йбашева Оле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ертификат участник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алеева Нур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рамота за отличные результат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ильфанов Айбула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рамота за отличные результат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имирова Айзи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плом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степен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Rectangle 1"/>
          <p:cNvSpPr/>
          <p:nvPr/>
        </p:nvSpPr>
        <p:spPr>
          <a:xfrm>
            <a:off x="1928880" y="-147240"/>
            <a:ext cx="7215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Результаты всероссийской дистанционной интернет - олимпиады школьников по физике (Санкт-Петербургский национально исследовательский университет Информационных Технологий, Механики и Оптики) за 2013-2014 учебный год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5600" y="-7920"/>
            <a:ext cx="7358040" cy="130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59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fff59"/>
                </a:solidFill>
                <a:latin typeface="Times New Roman"/>
              </a:rPr>
              <a:t>К любому ребёнку следует относиться с надеждой </a:t>
            </a:r>
            <a:br>
              <a:rPr sz="2400"/>
            </a:br>
            <a:r>
              <a:rPr b="1" lang="ru-RU" sz="2400" spc="-1" strike="noStrike">
                <a:solidFill>
                  <a:srgbClr val="ffff59"/>
                </a:solidFill>
                <a:latin typeface="Times New Roman"/>
              </a:rPr>
              <a:t>и ожиданием...”</a:t>
            </a:r>
            <a:br>
              <a:rPr sz="32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786040" y="1571400"/>
            <a:ext cx="4338720" cy="44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2786040" y="1530360"/>
            <a:ext cx="433872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1357200" y="1164600"/>
            <a:ext cx="6929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1.     Бахмутский А.Е. Школьная система мониторинга качества образования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Псков: АНО «Центр социального проектирования «Возрождение» , 2004. – 96 с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2.     Иванов Б. Н. Современная физика в школе: Методическое пособие. – М.: БИНОМ, 200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3.     Необычные учебные материалы по физике: задачи, тесты,        практические работы, книжка для чтения и раздумий/ Сост. Э. М. Браверман. М.: Школа-Пресс. 2000. 80с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(Библиотека журнала «Физика в школе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Вып. 16)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4.     Пойа Д. Как решать задачу. - М.: Учпедгиз, 1961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5.     Интернет-материалы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6.     Федотова Н. К. Из опыта работы с одаренными детьми / Н. К. Федотова 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/ Вестник НГУ. Серия: Педагогика 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Calibri"/>
                <a:ea typeface="Times New Roman"/>
              </a:rPr>
              <a:t>Новосиб гос ун-т. — 2008. — Т. 9, вып. 1. — С. 53 — 56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Прямоугольник 5"/>
          <p:cNvSpPr/>
          <p:nvPr/>
        </p:nvSpPr>
        <p:spPr>
          <a:xfrm>
            <a:off x="3267720" y="3571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59"/>
                </a:solidFill>
                <a:latin typeface="Calibri"/>
                <a:ea typeface="Times New Roman"/>
              </a:rPr>
              <a:t>Список использованной литературы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8258040" cy="25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just">
              <a:buClr>
                <a:srgbClr val="ffffc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4"/>
                </a:solidFill>
                <a:latin typeface="Times New Roman"/>
              </a:rPr>
              <a:t>Все одарённые учатся легко и быстро</a:t>
            </a:r>
            <a:r>
              <a:rPr b="0" lang="ru-RU" sz="2400" spc="-1" strike="noStrike">
                <a:solidFill>
                  <a:srgbClr val="ffffc4"/>
                </a:solidFill>
                <a:latin typeface="Times New Roman"/>
              </a:rPr>
              <a:t>! (стереотип  особенно распространён в учительской среде). Лёгкая обучаемость относится к одарённости, но это лишь один из её видов (далеко не самый продуктивный потом, во взрослой жизни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Содержимое 2"/>
          <p:cNvSpPr/>
          <p:nvPr/>
        </p:nvSpPr>
        <p:spPr>
          <a:xfrm>
            <a:off x="1143000" y="3000240"/>
            <a:ext cx="4143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0" i="1" lang="ru-RU" sz="2200" spc="-1" strike="noStrike">
                <a:solidFill>
                  <a:srgbClr val="eaeaea"/>
                </a:solidFill>
                <a:latin typeface="Times New Roman"/>
              </a:rPr>
              <a:t>Великий Альберт Эйнштейн не был утешением и надеждой родителей и гордостью учителей. Многие учителя считали его неспособным, и за неуспеваемость (правда, не по математике, как иногда сообщается) он был исключен из гимназии. Кстати сказать, при достаточно благонравном поведении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abda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Picture 5" descr="Картинка 11 из 120901"/>
          <p:cNvPicPr/>
          <p:nvPr/>
        </p:nvPicPr>
        <p:blipFill>
          <a:blip r:embed="rId1"/>
          <a:stretch/>
        </p:blipFill>
        <p:spPr>
          <a:xfrm>
            <a:off x="5715000" y="2428920"/>
            <a:ext cx="2786040" cy="3924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10920" y="587520"/>
            <a:ext cx="6567480" cy="85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Одаренность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49480" y="1905120"/>
            <a:ext cx="6384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это общая способность, раскрывающаяся в более высоких результатах при выполнении заданий, а также способность в различных областях.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9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9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9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9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39640" y="587520"/>
            <a:ext cx="6638760" cy="85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Times New Roman"/>
              </a:rPr>
              <a:t>Талант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68360" y="1905120"/>
            <a:ext cx="616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это необычная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способность в какой-либо узкой специфической области.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69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69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69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69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5" name="AutoShape 16"/>
          <p:cNvCxnSpPr>
            <a:stCxn id="116" idx="2"/>
            <a:endCxn id="117" idx="0"/>
          </p:cNvCxnSpPr>
          <p:nvPr/>
        </p:nvCxnSpPr>
        <p:spPr>
          <a:xfrm rot="5400000">
            <a:off x="2877480" y="2755440"/>
            <a:ext cx="849960" cy="2539080"/>
          </a:xfrm>
          <a:prstGeom prst="bentConnector3">
            <a:avLst>
              <a:gd name="adj1" fmla="val 50466"/>
            </a:avLst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18" name="AutoShape 17"/>
          <p:cNvCxnSpPr>
            <a:stCxn id="116" idx="2"/>
            <a:endCxn id="119" idx="0"/>
          </p:cNvCxnSpPr>
          <p:nvPr/>
        </p:nvCxnSpPr>
        <p:spPr>
          <a:xfrm flipH="1" rot="16200000">
            <a:off x="5410080" y="2761200"/>
            <a:ext cx="861120" cy="2539080"/>
          </a:xfrm>
          <a:prstGeom prst="bentConnector3">
            <a:avLst>
              <a:gd name="adj1" fmla="val 50522"/>
            </a:avLst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20" name="AutoShape 18"/>
          <p:cNvCxnSpPr>
            <a:stCxn id="116" idx="0"/>
            <a:endCxn id="121" idx="2"/>
          </p:cNvCxnSpPr>
          <p:nvPr/>
        </p:nvCxnSpPr>
        <p:spPr>
          <a:xfrm flipV="1" rot="16200000">
            <a:off x="2972880" y="1632960"/>
            <a:ext cx="659520" cy="2539080"/>
          </a:xfrm>
          <a:prstGeom prst="bentConnector3">
            <a:avLst>
              <a:gd name="adj1" fmla="val 50573"/>
            </a:avLst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22" name="AutoShape 19"/>
          <p:cNvCxnSpPr>
            <a:stCxn id="116" idx="0"/>
            <a:endCxn id="123" idx="2"/>
          </p:cNvCxnSpPr>
          <p:nvPr/>
        </p:nvCxnSpPr>
        <p:spPr>
          <a:xfrm flipH="1" flipV="1" rot="5400000">
            <a:off x="5498640" y="1620360"/>
            <a:ext cx="684720" cy="2539080"/>
          </a:xfrm>
          <a:prstGeom prst="bentConnector3">
            <a:avLst>
              <a:gd name="adj1" fmla="val 50552"/>
            </a:avLst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16" name="Rectangle 12"/>
          <p:cNvSpPr/>
          <p:nvPr/>
        </p:nvSpPr>
        <p:spPr>
          <a:xfrm>
            <a:off x="289080" y="3232080"/>
            <a:ext cx="8564400" cy="368280"/>
          </a:xfrm>
          <a:prstGeom prst="rect">
            <a:avLst/>
          </a:prstGeom>
          <a:solidFill>
            <a:srgbClr val="ffff9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92c"/>
                </a:solidFill>
                <a:latin typeface="Times New Roman"/>
              </a:rPr>
              <a:t>СФЕРЫ ДЕЯТЕЛЬНОСТИ ОРГАНИЗАТОРОВ ОБРАЗОВАТЕЛЬНОГО ПРОЦЕСС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5076720" y="4470480"/>
            <a:ext cx="4067280" cy="2387520"/>
          </a:xfrm>
          <a:prstGeom prst="rect">
            <a:avLst/>
          </a:prstGeom>
          <a:solidFill>
            <a:srgbClr val="ffff9e"/>
          </a:solidFill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92c"/>
                </a:solidFill>
                <a:latin typeface="Times New Roman"/>
              </a:rPr>
              <a:t>КЛАССНЫЕ РУКОВОДИТЕЛИ 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92c"/>
                </a:solidFill>
                <a:latin typeface="Times New Roman"/>
              </a:rPr>
              <a:t>РУКОВОДИТЕЛИ ОБЪЕДИНЕНИЙ ДО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ыявление одарённых детей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формление в дневниках классных руководителей сводной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аблицы по видам (областям) одарённости детей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нирование воспитательной работы в классе с учётом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еализации одарёнными детьми класса своих способностей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рганизация творческих отчётов детей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0" y="4457880"/>
            <a:ext cx="4067280" cy="2400120"/>
          </a:xfrm>
          <a:prstGeom prst="rect">
            <a:avLst/>
          </a:prstGeom>
          <a:solidFill>
            <a:srgbClr val="ffff9e"/>
          </a:solidFill>
          <a:ln w="15840">
            <a:solidFill>
              <a:srgbClr val="8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92c"/>
                </a:solidFill>
                <a:latin typeface="Times New Roman"/>
              </a:rPr>
              <a:t>УЧИТЕЛЯ-ПРЕДМЕТНИК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Корректировка программ и тематических планов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ля работы с одарёнными детьми, включение заданий повышенной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ложности, творческого,  научно-исследовательского уровней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здание в учебных кабинетах картотеки материалов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вышенного уровня сложности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рганизация индивидуальной работы с одарёнными детьми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дготовка учащихся к олимпиадам, конкурсам, викторинам,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конференциям различного уровня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тбор и оформление в течение года достижений одарённых детей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ля пополнения «портфеля ученика»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076720" y="0"/>
            <a:ext cx="4067280" cy="2540160"/>
          </a:xfrm>
          <a:prstGeom prst="rect">
            <a:avLst/>
          </a:prstGeom>
          <a:solidFill>
            <a:srgbClr val="ffff9e"/>
          </a:solidFill>
          <a:ln w="158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92c"/>
                </a:solidFill>
                <a:latin typeface="Times New Roman"/>
              </a:rPr>
              <a:t>ШКОЛЬНЫЕ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92c"/>
                </a:solidFill>
                <a:latin typeface="Times New Roman"/>
              </a:rPr>
              <a:t>МЕТОДИЧЕСКИЕ ОБЪЕДИНЕНИ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зработка материалов, вопросов и заданий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вышенного уровня сложности по предметам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формление материалов по работе с одарёнными детьми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(диагностики, образцы заданий, результаты олимпиад и т.д.)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уководство подготовкой творческих отчётов учителей,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ботающих с одарёнными детьми.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нирование и  проведение школьных предметных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лимпиад (ежегодно)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4067280" cy="2565360"/>
          </a:xfrm>
          <a:prstGeom prst="rect">
            <a:avLst/>
          </a:prstGeom>
          <a:solidFill>
            <a:srgbClr val="ffff9e"/>
          </a:solidFill>
          <a:ln w="15840">
            <a:solidFill>
              <a:srgbClr val="808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92c"/>
                </a:solidFill>
                <a:latin typeface="Times New Roman"/>
              </a:rPr>
              <a:t>АДМИНИСТРАЦИЯ ШКОЛЫ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92c"/>
                </a:solidFill>
                <a:latin typeface="Times New Roman"/>
              </a:rPr>
              <a:t>ПСИХОЛОГИЧЕСКАЯ СЛУЖБ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здание фонда поощрения и материального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тимулирования одарённых детей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мощь в разработке индивидуальных образовательных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ограмм для одарённых детей.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дбор диагностических материалов для выявления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дарённых детей.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оведение диагностики. Создание банка данных по одарённым детям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дготовка методических рекомендаций по работе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 одарёнными детьми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пределение критериев эффективности работы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рганизация участия детей в школьных, областных и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сероссийских  конкурсах, олимпиадах и т. п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76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недрение современных ИКТ в образовательный процесс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0.29306 0.31296 E">
                                      <p:cBhvr>
                                        <p:cTn id="57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81481E-006 L -0.29097 0.31296 E">
                                      <p:cBhvr>
                                        <p:cTn id="7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1019 L 0.29167 -0.32685 E">
                                      <p:cBhvr>
                                        <p:cTn id="8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64 -0.00741 L -0.28264 -0.32778 E">
                                      <p:cBhvr>
                                        <p:cTn id="102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Рисунок1"/>
          <p:cNvPicPr/>
          <p:nvPr/>
        </p:nvPicPr>
        <p:blipFill>
          <a:blip r:embed="rId1"/>
          <a:stretch/>
        </p:blipFill>
        <p:spPr>
          <a:xfrm>
            <a:off x="2438280" y="16192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Скругленный прямоугольник 18"/>
          <p:cNvSpPr/>
          <p:nvPr/>
        </p:nvSpPr>
        <p:spPr>
          <a:xfrm>
            <a:off x="179280" y="692280"/>
            <a:ext cx="4038840" cy="7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b0"/>
              </a:gs>
              <a:gs pos="100000">
                <a:srgbClr val="a4a467"/>
              </a:gs>
            </a:gsLst>
            <a:lin ang="135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3b"/>
                </a:solidFill>
                <a:latin typeface="Times New Roman"/>
              </a:rPr>
              <a:t>Разработка программы «Диагностика»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Скругленный прямоугольник 18"/>
          <p:cNvSpPr/>
          <p:nvPr/>
        </p:nvSpPr>
        <p:spPr>
          <a:xfrm>
            <a:off x="179280" y="1628640"/>
            <a:ext cx="4032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b0"/>
              </a:gs>
              <a:gs pos="100000">
                <a:srgbClr val="a4a467"/>
              </a:gs>
            </a:gsLst>
            <a:lin ang="135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3b"/>
                </a:solidFill>
                <a:latin typeface="Times New Roman"/>
              </a:rPr>
              <a:t>Организация информационно-консультационного сопровождения для учащихся и их родителей.</a:t>
            </a:r>
            <a:r>
              <a:rPr b="0" lang="ru-RU" sz="1800" spc="-1" strike="noStrike">
                <a:solidFill>
                  <a:srgbClr val="00763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Скругленный прямоугольник 18"/>
          <p:cNvSpPr/>
          <p:nvPr/>
        </p:nvSpPr>
        <p:spPr>
          <a:xfrm>
            <a:off x="108000" y="2708280"/>
            <a:ext cx="4032360" cy="100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b0"/>
              </a:gs>
              <a:gs pos="100000">
                <a:srgbClr val="a4a467"/>
              </a:gs>
            </a:gsLst>
            <a:lin ang="135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3b"/>
                </a:solidFill>
                <a:latin typeface="Times New Roman"/>
              </a:rPr>
              <a:t>Разработка на школьных методических объединениях программ работы с одаренными детьми</a:t>
            </a:r>
            <a:r>
              <a:rPr b="0" lang="ru-RU" sz="1600" spc="-1" strike="noStrike">
                <a:solidFill>
                  <a:srgbClr val="00763b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763b"/>
                </a:solidFill>
                <a:latin typeface="Times New Roman"/>
              </a:rPr>
              <a:t>по областям знаний.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Скругленный прямоугольник 18"/>
          <p:cNvSpPr/>
          <p:nvPr/>
        </p:nvSpPr>
        <p:spPr>
          <a:xfrm>
            <a:off x="179280" y="3933720"/>
            <a:ext cx="3930840" cy="118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b0"/>
              </a:gs>
              <a:gs pos="100000">
                <a:srgbClr val="a4a467"/>
              </a:gs>
            </a:gsLst>
            <a:lin ang="135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92c"/>
                </a:solidFill>
                <a:latin typeface="Times New Roman"/>
              </a:rPr>
              <a:t>Разработка системы подготовки педагогов для целенаправленной работы с одарёнными детьм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Скругленный прямоугольник 18"/>
          <p:cNvSpPr/>
          <p:nvPr/>
        </p:nvSpPr>
        <p:spPr>
          <a:xfrm>
            <a:off x="108000" y="5373720"/>
            <a:ext cx="4038480" cy="126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b0"/>
              </a:gs>
              <a:gs pos="100000">
                <a:srgbClr val="a4a467"/>
              </a:gs>
            </a:gsLst>
            <a:lin ang="135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3b"/>
                </a:solidFill>
                <a:latin typeface="Times New Roman"/>
              </a:rPr>
              <a:t>Использование возможности сетевого взаимодействия для развития и поддержки творческого потенциала школьников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WordArt 12"/>
          <p:cNvSpPr txBox="1"/>
          <p:nvPr/>
        </p:nvSpPr>
        <p:spPr>
          <a:xfrm>
            <a:off x="1511280" y="184320"/>
            <a:ext cx="13683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кет рабо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Скругленный прямоугольник 18"/>
          <p:cNvSpPr/>
          <p:nvPr/>
        </p:nvSpPr>
        <p:spPr>
          <a:xfrm>
            <a:off x="5076720" y="692280"/>
            <a:ext cx="386244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f7dd"/>
              </a:gs>
              <a:gs pos="100000">
                <a:srgbClr val="8f8c7f"/>
              </a:gs>
            </a:gsLst>
            <a:lin ang="2700000"/>
          </a:gradFill>
          <a:ln w="25560">
            <a:solidFill>
              <a:srgbClr val="003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1d"/>
                </a:solidFill>
                <a:latin typeface="Times New Roman"/>
              </a:rPr>
              <a:t>Создание банка данных, включающих в себя сведения о детях с различными типами одарённост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Скругленный прямоугольник 18"/>
          <p:cNvSpPr/>
          <p:nvPr/>
        </p:nvSpPr>
        <p:spPr>
          <a:xfrm>
            <a:off x="5076720" y="1700280"/>
            <a:ext cx="3888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f7dd"/>
              </a:gs>
              <a:gs pos="100000">
                <a:srgbClr val="8f8c7f"/>
              </a:gs>
            </a:gsLst>
            <a:lin ang="27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1d"/>
                </a:solidFill>
                <a:latin typeface="Times New Roman"/>
              </a:rPr>
              <a:t>Формирование  у родителей мотивации  к работе по развитию способностей</a:t>
            </a:r>
            <a:r>
              <a:rPr b="0" lang="ru-RU" sz="1800" spc="-1" strike="noStrike">
                <a:solidFill>
                  <a:srgbClr val="003b1d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3b1d"/>
                </a:solidFill>
                <a:latin typeface="Times New Roman"/>
              </a:rPr>
              <a:t>их детей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Скругленный прямоугольник 18"/>
          <p:cNvSpPr/>
          <p:nvPr/>
        </p:nvSpPr>
        <p:spPr>
          <a:xfrm>
            <a:off x="5076720" y="2781360"/>
            <a:ext cx="3888000" cy="96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f7dd"/>
              </a:gs>
              <a:gs pos="100000">
                <a:srgbClr val="8f8c7f"/>
              </a:gs>
            </a:gsLst>
            <a:lin ang="27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1d"/>
                </a:solidFill>
                <a:latin typeface="Times New Roman"/>
              </a:rPr>
              <a:t>Создание индивидуализированных образовательных программ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Скругленный прямоугольник 18"/>
          <p:cNvSpPr/>
          <p:nvPr/>
        </p:nvSpPr>
        <p:spPr>
          <a:xfrm>
            <a:off x="5148360" y="4005360"/>
            <a:ext cx="382248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f7dd"/>
              </a:gs>
              <a:gs pos="100000">
                <a:srgbClr val="8f8c7f"/>
              </a:gs>
            </a:gsLst>
            <a:lin ang="27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1d"/>
                </a:solidFill>
                <a:latin typeface="Times New Roman"/>
              </a:rPr>
              <a:t>Формирование группы преподавателей для работы с одаренными детьми</a:t>
            </a:r>
            <a:r>
              <a:rPr b="0" lang="ru-RU" sz="1600" spc="-1" strike="noStrike">
                <a:solidFill>
                  <a:srgbClr val="003b1d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Скругленный прямоугольник 18"/>
          <p:cNvSpPr/>
          <p:nvPr/>
        </p:nvSpPr>
        <p:spPr>
          <a:xfrm>
            <a:off x="5148360" y="5445000"/>
            <a:ext cx="3816360" cy="1092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f7dd"/>
              </a:gs>
              <a:gs pos="100000">
                <a:srgbClr val="8f8c7f"/>
              </a:gs>
            </a:gsLst>
            <a:lin ang="2700000"/>
          </a:gradFill>
          <a:ln w="25560">
            <a:solidFill>
              <a:srgbClr val="003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1d"/>
                </a:solidFill>
                <a:latin typeface="Times New Roman"/>
              </a:rPr>
              <a:t>Комплексное развитие личности ребёнк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WordArt 19"/>
          <p:cNvSpPr txBox="1"/>
          <p:nvPr/>
        </p:nvSpPr>
        <p:spPr>
          <a:xfrm>
            <a:off x="5651640" y="163440"/>
            <a:ext cx="24494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жидаемый результа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38" name="Стрелка вниз 12"/>
          <p:cNvGrpSpPr/>
          <p:nvPr/>
        </p:nvGrpSpPr>
        <p:grpSpPr>
          <a:xfrm>
            <a:off x="4356000" y="907560"/>
            <a:ext cx="647640" cy="360360"/>
            <a:chOff x="4356000" y="907560"/>
            <a:chExt cx="647640" cy="360360"/>
          </a:xfrm>
        </p:grpSpPr>
        <p:pic>
          <p:nvPicPr>
            <p:cNvPr id="139" name="Стрелка вниз 12" descr=""/>
            <p:cNvPicPr/>
            <p:nvPr/>
          </p:nvPicPr>
          <p:blipFill>
            <a:blip r:embed="rId3"/>
            <a:stretch/>
          </p:blipFill>
          <p:spPr>
            <a:xfrm rot="16200000">
              <a:off x="4499640" y="763920"/>
              <a:ext cx="3603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22"/>
            <p:cNvSpPr/>
            <p:nvPr/>
          </p:nvSpPr>
          <p:spPr>
            <a:xfrm rot="16200000">
              <a:off x="4547880" y="856800"/>
              <a:ext cx="1407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1" name="Стрелка вниз 12"/>
          <p:cNvGrpSpPr/>
          <p:nvPr/>
        </p:nvGrpSpPr>
        <p:grpSpPr>
          <a:xfrm>
            <a:off x="4356000" y="1844280"/>
            <a:ext cx="647640" cy="360360"/>
            <a:chOff x="4356000" y="1844280"/>
            <a:chExt cx="647640" cy="360360"/>
          </a:xfrm>
        </p:grpSpPr>
        <p:pic>
          <p:nvPicPr>
            <p:cNvPr id="142" name="Стрелка вниз 12" descr=""/>
            <p:cNvPicPr/>
            <p:nvPr/>
          </p:nvPicPr>
          <p:blipFill>
            <a:blip r:embed="rId4"/>
            <a:stretch/>
          </p:blipFill>
          <p:spPr>
            <a:xfrm rot="16200000">
              <a:off x="4499640" y="1700640"/>
              <a:ext cx="3603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25"/>
            <p:cNvSpPr/>
            <p:nvPr/>
          </p:nvSpPr>
          <p:spPr>
            <a:xfrm rot="16200000">
              <a:off x="4547880" y="1793520"/>
              <a:ext cx="1407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4" name="Стрелка вниз 12"/>
          <p:cNvGrpSpPr/>
          <p:nvPr/>
        </p:nvGrpSpPr>
        <p:grpSpPr>
          <a:xfrm>
            <a:off x="4356000" y="3141360"/>
            <a:ext cx="647640" cy="360360"/>
            <a:chOff x="4356000" y="3141360"/>
            <a:chExt cx="647640" cy="360360"/>
          </a:xfrm>
        </p:grpSpPr>
        <p:pic>
          <p:nvPicPr>
            <p:cNvPr id="145" name="Стрелка вниз 12" descr=""/>
            <p:cNvPicPr/>
            <p:nvPr/>
          </p:nvPicPr>
          <p:blipFill>
            <a:blip r:embed="rId5"/>
            <a:stretch/>
          </p:blipFill>
          <p:spPr>
            <a:xfrm rot="16200000">
              <a:off x="4499640" y="2997720"/>
              <a:ext cx="3603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28"/>
            <p:cNvSpPr/>
            <p:nvPr/>
          </p:nvSpPr>
          <p:spPr>
            <a:xfrm rot="16200000">
              <a:off x="4547880" y="3090600"/>
              <a:ext cx="1407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7" name="Стрелка вниз 12"/>
          <p:cNvGrpSpPr/>
          <p:nvPr/>
        </p:nvGrpSpPr>
        <p:grpSpPr>
          <a:xfrm>
            <a:off x="4356000" y="4292280"/>
            <a:ext cx="647640" cy="360360"/>
            <a:chOff x="4356000" y="4292280"/>
            <a:chExt cx="647640" cy="360360"/>
          </a:xfrm>
        </p:grpSpPr>
        <p:pic>
          <p:nvPicPr>
            <p:cNvPr id="148" name="Стрелка вниз 12" descr=""/>
            <p:cNvPicPr/>
            <p:nvPr/>
          </p:nvPicPr>
          <p:blipFill>
            <a:blip r:embed="rId6"/>
            <a:stretch/>
          </p:blipFill>
          <p:spPr>
            <a:xfrm rot="16200000">
              <a:off x="4499640" y="4148640"/>
              <a:ext cx="3603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31"/>
            <p:cNvSpPr/>
            <p:nvPr/>
          </p:nvSpPr>
          <p:spPr>
            <a:xfrm rot="16200000">
              <a:off x="4547880" y="4241520"/>
              <a:ext cx="1407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0" name="Стрелка вниз 12"/>
          <p:cNvGrpSpPr/>
          <p:nvPr/>
        </p:nvGrpSpPr>
        <p:grpSpPr>
          <a:xfrm>
            <a:off x="4427640" y="5733720"/>
            <a:ext cx="647640" cy="360360"/>
            <a:chOff x="4427640" y="5733720"/>
            <a:chExt cx="647640" cy="360360"/>
          </a:xfrm>
        </p:grpSpPr>
        <p:pic>
          <p:nvPicPr>
            <p:cNvPr id="151" name="Стрелка вниз 12" descr=""/>
            <p:cNvPicPr/>
            <p:nvPr/>
          </p:nvPicPr>
          <p:blipFill>
            <a:blip r:embed="rId7"/>
            <a:stretch/>
          </p:blipFill>
          <p:spPr>
            <a:xfrm rot="16200000">
              <a:off x="4571280" y="5590080"/>
              <a:ext cx="3603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37"/>
            <p:cNvSpPr/>
            <p:nvPr/>
          </p:nvSpPr>
          <p:spPr>
            <a:xfrm rot="16200000">
              <a:off x="4619520" y="5682960"/>
              <a:ext cx="1407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Рисунок1"/>
          <p:cNvPicPr/>
          <p:nvPr/>
        </p:nvPicPr>
        <p:blipFill>
          <a:blip r:embed="rId1"/>
          <a:stretch/>
        </p:blipFill>
        <p:spPr>
          <a:xfrm>
            <a:off x="2438280" y="16192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Скругленный прямоугольник 18"/>
          <p:cNvSpPr/>
          <p:nvPr/>
        </p:nvSpPr>
        <p:spPr>
          <a:xfrm>
            <a:off x="179280" y="836640"/>
            <a:ext cx="40323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b0"/>
              </a:gs>
              <a:gs pos="100000">
                <a:srgbClr val="a4a467"/>
              </a:gs>
            </a:gsLst>
            <a:lin ang="135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92c"/>
                </a:solidFill>
                <a:latin typeface="Times New Roman"/>
              </a:rPr>
              <a:t>Создание развивающей школьной среды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Скругленный прямоугольник 18"/>
          <p:cNvSpPr/>
          <p:nvPr/>
        </p:nvSpPr>
        <p:spPr>
          <a:xfrm>
            <a:off x="179280" y="1773360"/>
            <a:ext cx="403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b0"/>
              </a:gs>
              <a:gs pos="100000">
                <a:srgbClr val="a4a467"/>
              </a:gs>
            </a:gsLst>
            <a:lin ang="135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92c"/>
                </a:solidFill>
                <a:latin typeface="Times New Roman"/>
              </a:rPr>
              <a:t>Поощрение учащихся и преподавателей за высокую результативность в учебной и внеурочной  деятельност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Скругленный прямоугольник 18"/>
          <p:cNvSpPr/>
          <p:nvPr/>
        </p:nvSpPr>
        <p:spPr>
          <a:xfrm>
            <a:off x="176040" y="3181320"/>
            <a:ext cx="3930840" cy="103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b0"/>
              </a:gs>
              <a:gs pos="100000">
                <a:srgbClr val="a4a467"/>
              </a:gs>
            </a:gsLst>
            <a:lin ang="135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63b"/>
                </a:solidFill>
                <a:latin typeface="Times New Roman"/>
              </a:rPr>
              <a:t>Развитие системы социального партнёрств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Скругленный прямоугольник 18"/>
          <p:cNvSpPr/>
          <p:nvPr/>
        </p:nvSpPr>
        <p:spPr>
          <a:xfrm>
            <a:off x="179280" y="4508640"/>
            <a:ext cx="4038840" cy="90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b0"/>
              </a:gs>
              <a:gs pos="100000">
                <a:srgbClr val="a4a467"/>
              </a:gs>
            </a:gsLst>
            <a:lin ang="135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63b"/>
                </a:solidFill>
                <a:latin typeface="Times New Roman"/>
              </a:rPr>
              <a:t>Создание современной модели школьного образования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WordArt 12"/>
          <p:cNvSpPr txBox="1"/>
          <p:nvPr/>
        </p:nvSpPr>
        <p:spPr>
          <a:xfrm>
            <a:off x="1511280" y="184320"/>
            <a:ext cx="13683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кет рабо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Скругленный прямоугольник 18"/>
          <p:cNvSpPr/>
          <p:nvPr/>
        </p:nvSpPr>
        <p:spPr>
          <a:xfrm>
            <a:off x="5003640" y="836640"/>
            <a:ext cx="3784680" cy="668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f7dd"/>
              </a:gs>
              <a:gs pos="100000">
                <a:srgbClr val="8f8c7f"/>
              </a:gs>
            </a:gsLst>
            <a:lin ang="27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1d"/>
                </a:solidFill>
                <a:latin typeface="Times New Roman"/>
              </a:rPr>
              <a:t>Достаточная ресурсная база для реализации ФГОС</a:t>
            </a:r>
            <a:r>
              <a:rPr b="0" lang="ru-RU" sz="1800" spc="-1" strike="noStrike">
                <a:solidFill>
                  <a:srgbClr val="003b1d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Скругленный прямоугольник 18"/>
          <p:cNvSpPr/>
          <p:nvPr/>
        </p:nvSpPr>
        <p:spPr>
          <a:xfrm>
            <a:off x="5003640" y="1844640"/>
            <a:ext cx="381024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f7dd"/>
              </a:gs>
              <a:gs pos="100000">
                <a:srgbClr val="8f8c7f"/>
              </a:gs>
            </a:gsLst>
            <a:lin ang="27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1d"/>
                </a:solidFill>
                <a:latin typeface="Times New Roman"/>
              </a:rPr>
              <a:t>Формирование мотивации  к дальнейшему развитию личност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Скругленный прямоугольник 18"/>
          <p:cNvSpPr/>
          <p:nvPr/>
        </p:nvSpPr>
        <p:spPr>
          <a:xfrm>
            <a:off x="5003640" y="3213000"/>
            <a:ext cx="38228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f7dd"/>
              </a:gs>
              <a:gs pos="100000">
                <a:srgbClr val="8f8c7f"/>
              </a:gs>
            </a:gsLst>
            <a:lin ang="27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1d"/>
                </a:solidFill>
                <a:latin typeface="Times New Roman"/>
              </a:rPr>
              <a:t>Привлечение дополнительных ресурсов для школы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Скругленный прямоугольник 18"/>
          <p:cNvSpPr/>
          <p:nvPr/>
        </p:nvSpPr>
        <p:spPr>
          <a:xfrm>
            <a:off x="5003640" y="4437000"/>
            <a:ext cx="377352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f7dd"/>
              </a:gs>
              <a:gs pos="100000">
                <a:srgbClr val="8f8c7f"/>
              </a:gs>
            </a:gsLst>
            <a:lin ang="2700000"/>
          </a:gradFill>
          <a:ln w="25560">
            <a:solidFill>
              <a:srgbClr val="003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1d"/>
                </a:solidFill>
                <a:latin typeface="Times New Roman"/>
              </a:rPr>
              <a:t>Формирование личности, способной к самообучению и самостоятельно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1d"/>
                </a:solidFill>
                <a:latin typeface="Times New Roman"/>
              </a:rPr>
              <a:t>поисково-исследовательской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1d"/>
                </a:solidFill>
                <a:latin typeface="Times New Roman"/>
              </a:rPr>
              <a:t>деятельност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WordArt 19"/>
          <p:cNvSpPr txBox="1"/>
          <p:nvPr/>
        </p:nvSpPr>
        <p:spPr>
          <a:xfrm>
            <a:off x="5651640" y="163440"/>
            <a:ext cx="24494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жидаемый результа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5" name="Стрелка вниз 12"/>
          <p:cNvGrpSpPr/>
          <p:nvPr/>
        </p:nvGrpSpPr>
        <p:grpSpPr>
          <a:xfrm>
            <a:off x="4284720" y="1052280"/>
            <a:ext cx="647640" cy="360360"/>
            <a:chOff x="4284720" y="1052280"/>
            <a:chExt cx="647640" cy="360360"/>
          </a:xfrm>
        </p:grpSpPr>
        <p:pic>
          <p:nvPicPr>
            <p:cNvPr id="166" name="Стрелка вниз 12" descr=""/>
            <p:cNvPicPr/>
            <p:nvPr/>
          </p:nvPicPr>
          <p:blipFill>
            <a:blip r:embed="rId3"/>
            <a:stretch/>
          </p:blipFill>
          <p:spPr>
            <a:xfrm rot="16200000">
              <a:off x="4428360" y="908640"/>
              <a:ext cx="3603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25"/>
            <p:cNvSpPr/>
            <p:nvPr/>
          </p:nvSpPr>
          <p:spPr>
            <a:xfrm rot="16200000">
              <a:off x="4476600" y="1001520"/>
              <a:ext cx="1407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8" name="Стрелка вниз 12"/>
          <p:cNvGrpSpPr/>
          <p:nvPr/>
        </p:nvGrpSpPr>
        <p:grpSpPr>
          <a:xfrm>
            <a:off x="4284720" y="2276280"/>
            <a:ext cx="647640" cy="360360"/>
            <a:chOff x="4284720" y="2276280"/>
            <a:chExt cx="647640" cy="360360"/>
          </a:xfrm>
        </p:grpSpPr>
        <p:pic>
          <p:nvPicPr>
            <p:cNvPr id="169" name="Стрелка вниз 12" descr=""/>
            <p:cNvPicPr/>
            <p:nvPr/>
          </p:nvPicPr>
          <p:blipFill>
            <a:blip r:embed="rId4"/>
            <a:stretch/>
          </p:blipFill>
          <p:spPr>
            <a:xfrm rot="16200000">
              <a:off x="4428360" y="2132640"/>
              <a:ext cx="3603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28"/>
            <p:cNvSpPr/>
            <p:nvPr/>
          </p:nvSpPr>
          <p:spPr>
            <a:xfrm rot="16200000">
              <a:off x="4476600" y="2225520"/>
              <a:ext cx="1407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1" name="Стрелка вниз 12"/>
          <p:cNvGrpSpPr/>
          <p:nvPr/>
        </p:nvGrpSpPr>
        <p:grpSpPr>
          <a:xfrm>
            <a:off x="4237200" y="3530160"/>
            <a:ext cx="647640" cy="360360"/>
            <a:chOff x="4237200" y="3530160"/>
            <a:chExt cx="647640" cy="360360"/>
          </a:xfrm>
        </p:grpSpPr>
        <p:pic>
          <p:nvPicPr>
            <p:cNvPr id="172" name="Стрелка вниз 12" descr=""/>
            <p:cNvPicPr/>
            <p:nvPr/>
          </p:nvPicPr>
          <p:blipFill>
            <a:blip r:embed="rId5"/>
            <a:stretch/>
          </p:blipFill>
          <p:spPr>
            <a:xfrm rot="16200000">
              <a:off x="4380840" y="3386520"/>
              <a:ext cx="3603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31"/>
            <p:cNvSpPr/>
            <p:nvPr/>
          </p:nvSpPr>
          <p:spPr>
            <a:xfrm rot="16200000">
              <a:off x="4429080" y="3479400"/>
              <a:ext cx="1407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4" name="Стрелка вниз 12"/>
          <p:cNvGrpSpPr/>
          <p:nvPr/>
        </p:nvGrpSpPr>
        <p:grpSpPr>
          <a:xfrm>
            <a:off x="4284720" y="4868640"/>
            <a:ext cx="647640" cy="360360"/>
            <a:chOff x="4284720" y="4868640"/>
            <a:chExt cx="647640" cy="360360"/>
          </a:xfrm>
        </p:grpSpPr>
        <p:pic>
          <p:nvPicPr>
            <p:cNvPr id="175" name="Стрелка вниз 12" descr=""/>
            <p:cNvPicPr/>
            <p:nvPr/>
          </p:nvPicPr>
          <p:blipFill>
            <a:blip r:embed="rId6"/>
            <a:stretch/>
          </p:blipFill>
          <p:spPr>
            <a:xfrm rot="16200000">
              <a:off x="4428360" y="4725000"/>
              <a:ext cx="3603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37"/>
            <p:cNvSpPr/>
            <p:nvPr/>
          </p:nvSpPr>
          <p:spPr>
            <a:xfrm rot="16200000">
              <a:off x="4476600" y="4817880"/>
              <a:ext cx="1407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0:09:57Z</dcterms:created>
  <dc:creator>User</dc:creator>
  <dc:description/>
  <dc:language>en-US</dc:language>
  <cp:lastModifiedBy>G10376</cp:lastModifiedBy>
  <dcterms:modified xsi:type="dcterms:W3CDTF">2014-03-27T12:27:36Z</dcterms:modified>
  <cp:revision>55</cp:revision>
  <dc:subject/>
  <dc:title>РАБОТА С ОДАРЕННЫМИ ДЕТЬ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